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26.jpeg" ContentType="image/jpeg"/>
  <Override PartName="/ppt/media/image4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2C6-ADB2-47DE-878F-31013BC5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8C4-89AC-472A-BCA6-831A423E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24C-BF99-48FD-8911-61EBB320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139-F70A-48F4-AFC0-25409A14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AE46-3C6C-4E62-A555-BBBB05D7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39AB-1C66-412B-86F9-6D69C1FA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A150-EBDD-426B-A6C1-BAABA449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23B4-7747-427B-9F53-95290F6B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603B-5703-4AD1-81B5-175175DC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8EC3-DC35-4ED2-8A48-6BCD7D81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3C7E-B418-425D-ABEE-C064EA7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D66-0E36-4BDB-B9E3-E172109E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D6BB-7D11-49BC-BBC7-1595A9A2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7FEF-7A4E-4F1F-A42E-E6BBFA8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F93B-37B2-4A58-B9DC-0B78D70D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FEFA-AE33-4700-BCF7-30F843B0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FB42-EF49-430D-AB76-C9593427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4B1-CEF7-45D2-ACFE-57D23D28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858-016B-4E92-AB7A-AB1769A1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03A-4E96-4B5E-86D4-00662C8D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C1D-F6A3-4C0F-80B2-E1A6A329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C9F-BE6B-46BF-A571-2528630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D65-84AC-449C-AF79-DD273CFB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4C4-3EA0-4937-BEA6-8F411FCB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7D0-7848-4B93-9E10-00FE2FCDD6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F6D4-B51C-4F38-BAE4-B9A5455875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13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efuntimesguide.com/images/blogs/corn_on_cob_holders.jpg&amp;imgrefurl=http://food.thefuntimesguide.com/2005/07/corn_on_the_cob.php&amp;usg=__uSIVt8EMywukU2Nki-YjDJrni18=&amp;h=400&amp;w=600&amp;sz=267&amp;hl=EN&amp;start=3&amp;tbnid=KjYtLyUunvu9zM:&amp;tbnh=90&amp;tbnw=135&amp;prev=/images?q=cob&amp;gbv=2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sz-wholesale.com/uploadFiles/upimg1/Rectangle-Oval-Or-Teardrop-Key-Fob15317.jpg&amp;imgrefurl=http://www.sz-wholesale.com/Search-Result/key-fob/&amp;usg=__zzZ0ymV7h13relR2SBusckOeY4g=&amp;h=350&amp;w=350&amp;sz=15&amp;hl=EN&amp;start=59&amp;tbnid=QnhdTcKZk_1PUM:&amp;tbnh=120&amp;tbnw=120&amp;prev=/images?q=fob&amp;gbv=2&amp;ndsp=18&amp;hl=EN&amp;sa=N&amp;start=54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illiamlobdell.com/wp-content/uploads/2009/02/angry-mob.bmp&amp;imgrefurl=http://williamlobdell.com/archives/573&amp;usg=__DzKYWXN1KcBGpzocv3UX5smYpys=&amp;h=454&amp;w=594&amp;sz=792&amp;hl=EN&amp;start=84&amp;tbnid=s2eeYjYigbebkM:&amp;tbnh=103&amp;tbnw=135&amp;prev=/images?q=mob&amp;gbv=2&amp;ndsp=18&amp;hl=EN&amp;sa=N&amp;start=72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1.bp.blogspot.com/_t-wcG2Q5x8w/RypZkDLMMWI/AAAAAAAAAM4/sxTzllKJP3M/s320/drummonds_knob2.jpg&amp;imgrefurl=http://textiledecor.blogspot.com/2007/11/door-knobs-handles-fingerplates-door.html&amp;usg=__zE5KX-HVd5XtDPqiEdVbDOuupy4=&amp;h=297&amp;w=320&amp;sz=20&amp;hl=EN&amp;start=18&amp;tbnid=N7-uBKxQI_gXEM:&amp;tbnh=110&amp;tbnw=118&amp;prev=/images?q=knob&amp;gbv=2&amp;hl=E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www.uloc.de/screenshots/h/habf17_10_homer_blob.jpg&amp;imgrefurl=http://www.skyscrapercity.com/showthread.php?p=25517116&amp;usg=__4OlZSbszl3gCDP2uUQ5PdW2a0KY=&amp;h=368&amp;w=512&amp;sz=34&amp;hl=EN&amp;start=7&amp;tbnid=4CMfdAOBJhzbyM:&amp;tbnh=94&amp;tbnw=131&amp;prev=/images?q=blob&amp;gbv=2&amp;ndsp=18&amp;hl=EN&amp;sa=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com/imgres?imgurl=http://www.dreamstime.com/loathsome-slob-thumb59176.jpg&amp;imgrefurl=http://www.dreamstime.com/loathsome-slob-image59176&amp;usg=__maoHoJDwyZOmhxG1isoXHHmlwts=&amp;h=210&amp;w=300&amp;sz=40&amp;hl=EN&amp;start=22&amp;tbnid=SXyDpKZpEsB_cM:&amp;tbnh=81&amp;tbnw=116&amp;prev=/images?q=slob&amp;gbv=2&amp;ndsp=18&amp;hl=EN&amp;sa=N&amp;start=18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www.sue-chan.com/art/snob.jpg&amp;imgrefurl=http://www.viprasys.org/vb/f18/10-ways-tell-if-youre-snob-205521/&amp;usg=__ljF3ZnfYMTqz0xAqxATCIePotfY=&amp;h=696&amp;w=551&amp;sz=83&amp;hl=EN&amp;start=18&amp;tbnid=7ktDh2HvFADZIM:&amp;tbnh=139&amp;tbnw=110&amp;prev=/images?q=snob&amp;gbv=2&amp;hl=EN" TargetMode="External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.about.com/d/gocentralamerica/1/0/U/-/-/-/dock.JPG&amp;imgrefurl=http://gocentralamerica.about.com/od/topattractions/ig/Atitlan-Gallery/dock.htm&amp;usg=__szma24z2gSYNoq6wvIkOuOy2qyQ=&amp;h=1728&amp;w=2304&amp;sz=960&amp;hl=EN&amp;start=3&amp;tbnid=GY4IpTvB2Bjz8M:&amp;tbnh=113&amp;tbnw=150&amp;prev=/images?q=dock&amp;gbv=2&amp;hl=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jockdreams.com/images/Jock0124081.jpg&amp;imgrefurl=http://jockdreams.com/index.php/archives/51&amp;usg=__Gmbm9nVLK4fG73etXwHtNRexpQU=&amp;h=398&amp;w=409&amp;sz=128&amp;hl=EN&amp;start=11&amp;tbnid=WZDOZOE1uDTP9M:&amp;tbnh=122&amp;tbnw=125&amp;prev=/images?q=jock&amp;gbv=2&amp;hl=E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fs.fed.us/r3/coronado/forest/local-resources/images/reppelling2.jpg&amp;imgrefurl=http://www.fs.fed.us/r3/coronado/forest/recreation/rock_climbing/rocks.shtml&amp;usg=__1FXUBY4peUcjfKLmf5P5fIT2Huk=&amp;h=5312&amp;w=3600&amp;sz=784&amp;hl=EN&amp;start=15&amp;tbnid=4K9N-tjtKUpd8M:&amp;tbnh=150&amp;tbnw=102&amp;prev=/images?q=rock&amp;gbv=2&amp;hl=EN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kjbeckett.com/mensfashionblog/uploaded_images/paul-smith-socks-784860.jpg&amp;imgrefurl=http://www.kjbeckett.com/mensfashionblog/labels/Designers.html&amp;usg=__9bUMSj5hiRPrQCjNyPwFNwkLpxk=&amp;h=350&amp;w=350&amp;sz=45&amp;hl=EN&amp;start=2&amp;tbnid=S_f9iD0zBTmPdM:&amp;tbnh=120&amp;tbnw=120&amp;prev=/images?q=sock&amp;gbv=2&amp;hl=EN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m/imgres?imgurl=http://www.shelleygrund.com/images/PADs/PAD65-tick-tock.jpg&amp;imgrefurl=http://www.shelleygrund.com/FineArt/painting-a-day-Dec06.htm&amp;usg=__lQBuPIMXso9QEZLQT_eFrirKaFc=&amp;h=500&amp;w=353&amp;sz=76&amp;hl=EN&amp;start=9&amp;tbnid=Y6oK_EXaUk1_wM:&amp;tbnh=130&amp;tbnw=92&amp;prev=/images?q=tock&amp;gbv=2&amp;hl=EN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blakeneymanor.com/images/carryon/shock.jpg&amp;imgrefurl=http://thegreenman.net.au/mt/archives/cat_current_affairs.html&amp;usg=__gz80Cxh_MUz62fbfYbQxpvk7l34=&amp;h=305&amp;w=412&amp;sz=96&amp;hl=EN&amp;start=7&amp;tbnid=W4lq1Xmg65OibM:&amp;tbnh=93&amp;tbnw=125&amp;prev=/images?q=shock&amp;gbv=2&amp;ndsp=18&amp;hl=EN&amp;sa=N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base.cygnuspub.com/images/Products/GSW/2007/Nov/300x300/AEROSpeci_ChockLock_25524.png&amp;imgrefurl=http://directory.groundsupportworldwide.com/product/32817/Chock-Lock&amp;usg=__F-wiF2oUms7AQsUTX2kwtAhJNjA=&amp;h=300&amp;w=300&amp;sz=57&amp;hl=EN&amp;start=75&amp;tbnid=HaoEXM1eF7_CFM:&amp;tbnh=116&amp;tbnw=116&amp;prev=/images?q=chock&amp;gbv=2&amp;ndsp=18&amp;hl=EN&amp;sa=N&amp;start=72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images.google.com/imgres?imgurl=http://www.naturalsciences.org/microsites/education/treks/bluebird/images/Knock-first.jpg&amp;imgrefurl=http://naturalsciences.org/microsites/education/treks/bluebird/pages/Knock-first.html&amp;usg=__5v1IRsD5dLcUoX5B-pqtezJB2IY=&amp;h=600&amp;w=400&amp;sz=41&amp;hl=EN&amp;start=9&amp;tbnid=CBPvG0fzZjnHwM:&amp;tbnh=135&amp;tbnw=90&amp;prev=/images?q=knock&amp;gbv=2&amp;hl=EN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://images.google.com/imgres?imgurl=http://www.germes-online.com/direct/dbimage/50185440/ABC_Block.jpg&amp;imgrefurl=http://www.germes-online.com/catalog/62/1156/page7/wooden_toys.html&amp;usg=__aMLEUUkuEIALVayU2kTKUrLi0Vg=&amp;h=360&amp;w=360&amp;sz=31&amp;hl=EN&amp;start=2&amp;tbnid=pgs0IaQbLgMZMM:&amp;tbnh=121&amp;tbnw=121&amp;prev=/images?q=block&amp;gbv=2&amp;ndsp=18&amp;hl=EN&amp;sa=N" TargetMode="External"/><Relationship Id="rId18" Type="http://schemas.openxmlformats.org/officeDocument/2006/relationships/image" Target="../media/image18.jpeg"/><Relationship Id="rId19" Type="http://schemas.openxmlformats.org/officeDocument/2006/relationships/hyperlink" Target="http://images.google.com/imgres?imgurl=http://www.roadtrucker.com/12-volt-cooking/12-volt-cooking-products/12-volt-slow-cooker-crock-pot.jpg&amp;imgrefurl=http://www.roadtrucker.com/12-volt-cooking/12-volt-portable-slow-cooker-crock-pot.htm&amp;usg=__W8JwYz7sHZj_M43Tq-GFZPMbylY=&amp;h=630&amp;w=586&amp;sz=20&amp;hl=EN&amp;start=15&amp;tbnid=v-xos10jXc7WsM:&amp;tbnh=137&amp;tbnw=127&amp;prev=/images?q=crock&amp;gbv=2&amp;hl=EN" TargetMode="External"/><Relationship Id="rId20" Type="http://schemas.openxmlformats.org/officeDocument/2006/relationships/image" Target="../media/image19.jpeg"/><Relationship Id="rId21" Type="http://schemas.openxmlformats.org/officeDocument/2006/relationships/hyperlink" Target="http://images.google.com/imgres?imgurl=http://www.freefoto.com/images/01/01/01_01_24---Flock-of-Birds_web.jpg&amp;imgrefurl=http://www.freefoto.com/preview/01-01-24?ffid=01-01-24&amp;usg=__rPvXBlVlH4ejhzKmwn7DXtfBngo=&amp;h=400&amp;w=600&amp;sz=110&amp;hl=EN&amp;start=17&amp;tbnid=2XVm_U41rqdeGM:&amp;tbnh=90&amp;tbnw=135&amp;prev=/images?q=flock&amp;gbv=2&amp;hl=EN" TargetMode="External"/><Relationship Id="rId22" Type="http://schemas.openxmlformats.org/officeDocument/2006/relationships/image" Target="../media/image20.jpeg"/><Relationship Id="rId23" Type="http://schemas.openxmlformats.org/officeDocument/2006/relationships/hyperlink" Target="http://images.google.com/imgres?imgurl=http://restaurantuniforms.com/artistsmock.jpg&amp;imgrefurl=http://restaurantuniforms.com/smocks.htm&amp;usg=__OAEm9-0Mdce4MzM4BUzz9O4QF7s=&amp;h=425&amp;w=455&amp;sz=40&amp;hl=EN&amp;start=6&amp;tbnid=hpecjBRiGfcWjM:&amp;tbnh=120&amp;tbnw=128&amp;prev=/images?q=smock&amp;gbv=2&amp;hl=EN" TargetMode="External"/><Relationship Id="rId24" Type="http://schemas.openxmlformats.org/officeDocument/2006/relationships/image" Target="../media/image21.jpeg"/><Relationship Id="rId25" Type="http://schemas.openxmlformats.org/officeDocument/2006/relationships/hyperlink" Target="http://images.google.com/imgres?imgurl=http://www.ipr.edu/multimedia/wp-content/uploads/2009/02/star-trek-spock1.jpg&amp;imgrefurl=http://www.ipr.edu/multimedia/index.php/2009/02/10/killzone-2-reviews-spark-embarassing-responses-from-gamers/&amp;usg=__1DErEgS2fsu7WL0-mLKHT9IhiMA=&amp;h=504&amp;w=559&amp;sz=51&amp;hl=EN&amp;start=3&amp;tbnid=Z3-S5wDYXGWoJM:&amp;tbnh=120&amp;tbnw=133&amp;prev=/images?q=Spock&amp;gbv=2&amp;hl=EN" TargetMode="External"/><Relationship Id="rId26" Type="http://schemas.openxmlformats.org/officeDocument/2006/relationships/image" Target="../media/image22.jpeg"/><Relationship Id="rId27" Type="http://schemas.openxmlformats.org/officeDocument/2006/relationships/hyperlink" Target="http://images.google.com/imgres?imgurl=http://www.harmonyhouseservices.org/stock%2520room.jpg&amp;imgrefurl=http://www.harmonyhouseservices.org/mission.html&amp;usg=__wDc80Xqf9jxcum_hqsAmeCknm-k=&amp;h=426&amp;w=568&amp;sz=106&amp;hl=EN&amp;start=61&amp;tbnid=QqJuTuhyQiiHtM:&amp;tbnh=101&amp;tbnw=134&amp;prev=/images?q=stockroom&amp;gbv=2&amp;ndsp=18&amp;hl=EN&amp;sa=N&amp;start=54" TargetMode="External"/><Relationship Id="rId28" Type="http://schemas.openxmlformats.org/officeDocument/2006/relationships/image" Target="../media/image23.jpeg"/><Relationship Id="rId2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ottsboro.org/~flewis/Class%20Tools/Ronald%20Morgan%20Goes%20to%20Bat.htm" TargetMode="External"/><Relationship Id="rId2" Type="http://schemas.openxmlformats.org/officeDocument/2006/relationships/hyperlink" Target="http://scottsboro.org/~flewis/SF%20Reading%20Street/spellmaster/Ronald%20Morgan/jigword2.html" TargetMode="External"/><Relationship Id="rId3" Type="http://schemas.openxmlformats.org/officeDocument/2006/relationships/hyperlink" Target="http://scottsboro.org/~flewis/SF%20Reading%20Street/spellmaster/Ronald%20Morgan/matchword2.html" TargetMode="External"/><Relationship Id="rId4" Type="http://schemas.openxmlformats.org/officeDocument/2006/relationships/hyperlink" Target="http://scottsboro.org/~flewis/SF%20Reading%20Street/spellmaster/Ronald%20Morgan/speedword2.html" TargetMode="External"/><Relationship Id="rId5" Type="http://schemas.openxmlformats.org/officeDocument/2006/relationships/hyperlink" Target="http://scottsboro.org/~flewis/SF%20Reading%20Street/spellmaster/Ronald%20Morgan/wordsearch2.html" TargetMode="External"/><Relationship Id="rId6" Type="http://schemas.openxmlformats.org/officeDocument/2006/relationships/hyperlink" Target="http://scottsboro.org/~flewis/SF%20Reading%20Street/spellmaster/Ronald%20Morgan/wordweb.html" TargetMode="External"/><Relationship Id="rId7" Type="http://schemas.openxmlformats.org/officeDocument/2006/relationships/hyperlink" Target="http://www.spellingcity.com/index.php?option=com_spellcity&amp;task=viewList&amp;listId=825904" TargetMode="External"/><Relationship Id="rId8" Type="http://schemas.openxmlformats.org/officeDocument/2006/relationships/hyperlink" Target="http://www.spellingcity.com/index.php?option=com_spellcity&amp;task=viewList&amp;listId=825909" TargetMode="External"/><Relationship Id="rId9" Type="http://schemas.openxmlformats.org/officeDocument/2006/relationships/hyperlink" Target="http://scottsboro.org/~flewis/SF%20Reading%20Street/spellmaster/Ronald%20Morgan%20Spelling%20Words/speedword2.html" TargetMode="External"/><Relationship Id="rId10" Type="http://schemas.openxmlformats.org/officeDocument/2006/relationships/hyperlink" Target="http://scottsboro.org/~flewis/SF%20Reading%20Street/spellmaster/Ronald%20Morgan%20Spelling%20Words/wordweb.html" TargetMode="External"/><Relationship Id="rId11" Type="http://schemas.openxmlformats.org/officeDocument/2006/relationships/hyperlink" Target="http://www.quia.com/ba/109475.html" TargetMode="External"/><Relationship Id="rId12" Type="http://schemas.openxmlformats.org/officeDocument/2006/relationships/hyperlink" Target="http://www.spellingcity.com/index.php?option=com_spellcity&amp;Itemid=122&amp;task=viewList&amp;listId=354213" TargetMode="External"/><Relationship Id="rId13" Type="http://schemas.openxmlformats.org/officeDocument/2006/relationships/hyperlink" Target="http://scottsboro.org/~flewis/SF%20Reading%20Street/Hot%20Potatoes/Ronald_Morgan_Goes_to_Bat.htm" TargetMode="External"/><Relationship Id="rId14" Type="http://schemas.openxmlformats.org/officeDocument/2006/relationships/hyperlink" Target="http://www.spellingcity.com/index.php?option=com_spellcity&amp;task=viewList&amp;listId=825915" TargetMode="External"/><Relationship Id="rId15" Type="http://schemas.openxmlformats.org/officeDocument/2006/relationships/hyperlink" Target="http://www.spellingcity.com/index.php?option=com_spellcity&amp;task=viewList&amp;listId=825915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spellmaster/Ronald%20Morgan/jigword2.html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13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martcanucks.ca/wp-content/uploads/2006/10/easy-bake-oven.jpg&amp;imgrefurl=http://allcakedup.blogspot.com/&amp;usg=__WRMkSe9kk6dYwOYDpIwv55Fvako=&amp;h=386&amp;w=450&amp;sz=30&amp;hl=EN&amp;start=2&amp;tbnid=batswpqOtAQu4M:&amp;tbnh=109&amp;tbnw=127&amp;prev=/images?q=BAKE&amp;gbv=2&amp;hl=EN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cinderellacaketoppers.com/data/media/8/pink-wedding-cake.jpg&amp;imgrefurl=http://www.1weddingsource.com/blog/category/wedding-cakes/&amp;usg=__HHLUs-IiOSzqEjI7b43NICr2wHk=&amp;h=756&amp;w=650&amp;sz=42&amp;hl=EN&amp;start=25&amp;tbnid=vCHnnqfClJBp7M:&amp;tbnh=142&amp;tbnw=122&amp;prev=/images?q=cake&amp;gbv=2&amp;ndsp=18&amp;hl=EN&amp;sa=N&amp;start=18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i.ehow.com/images/GlobalPhoto/Articles/2135205/rake_Full.jpg&amp;imgrefurl=http://www.ehow.com/how_2135205_rake-leaves-efficiently.html&amp;usg=__JM67HsnDgSLG8yq4bPMdGfiBAvg=&amp;h=599&amp;w=561&amp;sz=50&amp;hl=EN&amp;start=16&amp;tbnid=N3LJkG62aJn5zM:&amp;tbnh=135&amp;tbnw=126&amp;prev=/images?q=rake&amp;gbv=2&amp;ndsp=18&amp;hl=EN&amp;sa=N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google.com/imgres?imgurl=http://candyaddict.com/blog/candy_pictures/andes_mint_shake.jpg&amp;imgrefurl=http://candyaddict.com/blog/2007/05/14/review-jack-in-the-box-andes-mint-shake/&amp;usg=__YSu-ZEj09wWPWXWns86rJb-as0M=&amp;h=400&amp;w=300&amp;sz=29&amp;hl=EN&amp;start=5&amp;tbnid=1QEkRtrPS6NhKM:&amp;tbnh=124&amp;tbnw=93&amp;prev=/images?q=shake&amp;gbv=2&amp;hl=EN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google.com/imgres?imgurl=http://www.sheldonbrown.com/images/campagnolo-cobalto-brake.jpg&amp;imgrefurl=http://www.sheldonbrown.com/gloss_cn-z.html&amp;usg=__F3IswFNlw6JRC1l08nO86aMsYdg=&amp;h=449&amp;w=400&amp;sz=108&amp;hl=EN&amp;start=9&amp;tbnid=gN9A2-GOo0qDwM:&amp;tbnh=127&amp;tbnw=113&amp;prev=/images?q=brake&amp;gbv=2&amp;hl=EN" TargetMode="External"/><Relationship Id="rId10" Type="http://schemas.openxmlformats.org/officeDocument/2006/relationships/image" Target="../media/image29.jpeg"/><Relationship Id="rId11" Type="http://schemas.openxmlformats.org/officeDocument/2006/relationships/hyperlink" Target="http://images.google.com/imgres?imgurl=http://birdsbybaranoff.com/images/9308-black-duck-drake.jpg&amp;imgrefurl=http://birdsbybaranoff.com/chincoteaguetrip.htm&amp;usg=__W-ECEYiiITKeZVZ36nanOvOHWis=&amp;h=480&amp;w=650&amp;sz=97&amp;hl=EN&amp;start=5&amp;tbnid=vC1sxaUIzIG4YM:&amp;tbnh=101&amp;tbnw=137&amp;prev=/images?q=duck+drake&amp;gbv=2&amp;ndsp=18&amp;hl=EN&amp;sa=N" TargetMode="External"/><Relationship Id="rId12" Type="http://schemas.openxmlformats.org/officeDocument/2006/relationships/image" Target="../media/image30.jpeg"/><Relationship Id="rId13" Type="http://schemas.openxmlformats.org/officeDocument/2006/relationships/hyperlink" Target="http://images.google.com/imgres?imgurl=http://dave.csonka.net/gallery/d/51-2/snow_flake.jpg&amp;imgrefurl=http://dave.csonka.net/gallery/v/art-nature/snow_flake.jpg.html&amp;usg=__4KPiSx--c_TfbUyikmKz6-CK3a8=&amp;h=549&amp;w=640&amp;sz=57&amp;hl=EN&amp;start=13&amp;tbnid=NzYVg4u5cP7Y8M:&amp;tbnh=118&amp;tbnw=137&amp;prev=/images?q=flake&amp;gbv=2&amp;hl=EN" TargetMode="External"/><Relationship Id="rId14" Type="http://schemas.openxmlformats.org/officeDocument/2006/relationships/image" Target="../media/image31.jpeg"/><Relationship Id="rId15" Type="http://schemas.openxmlformats.org/officeDocument/2006/relationships/hyperlink" Target="http://images.google.com/imgres?imgurl=http://www.wallpaperbase.com/wallpapers/animals/snakes/snake_2.jpg&amp;imgrefurl=http://www.wallpaperbase.com/animals-snakes.shtml&amp;usg=__VPiDJsELqwMzVN-TAGL6kXX-BFI=&amp;h=600&amp;w=800&amp;sz=95&amp;hl=EN&amp;start=24&amp;tbnid=i8meDtrFRjmIOM:&amp;tbnh=107&amp;tbnw=143&amp;prev=/images?q=snake&amp;gbv=2&amp;ndsp=18&amp;hl=EN&amp;sa=N&amp;start=18" TargetMode="External"/><Relationship Id="rId16" Type="http://schemas.openxmlformats.org/officeDocument/2006/relationships/image" Target="../media/image32.jpeg"/><Relationship Id="rId17" Type="http://schemas.openxmlformats.org/officeDocument/2006/relationships/hyperlink" Target="http://images.google.com/imgres?imgurl=http://www.victoriananursery.co.uk/plant_care_and_gardening_tools/tree_stake_and_tie/l/tree_stake_tie.jpg&amp;imgrefurl=http://www.victoriananursery.co.uk/plant_care_and_gardening_tools/tree_stake_and_tie/&amp;usg=__23uN9eOsGmn8sBQHarKEEgp_2IM=&amp;h=300&amp;w=300&amp;sz=57&amp;hl=EN&amp;start=5&amp;tbnid=OzfqNiHwa46afM:&amp;tbnh=116&amp;tbnw=116&amp;prev=/images?q=stake&amp;gbv=2&amp;hl=EN" TargetMode="External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Ronald_Morgan_Goes_to_Bat.htm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Ronald_Morgan_Goes_to_Bat.htm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spellmaster/Ronald%20Morgan/jigword2.html" TargetMode="Externa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13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36.xml"/><Relationship Id="rId3" Type="http://schemas.openxmlformats.org/officeDocument/2006/relationships/slide" Target="slide64.xml"/><Relationship Id="rId4" Type="http://schemas.openxmlformats.org/officeDocument/2006/relationships/slide" Target="slide82.xml"/><Relationship Id="rId5" Type="http://schemas.openxmlformats.org/officeDocument/2006/relationships/slide" Target="slide96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13" TargetMode="Externa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indwhistler.com/images/dine/dine.jpg&amp;imgrefurl=http://www.findwhistler.com/page.cfm/2680&amp;usg=__-A3wNOvaw-KBSZ4xDtiXktXWFzo=&amp;h=300&amp;w=583&amp;sz=41&amp;hl=EN&amp;start=2&amp;tbnid=hy9Oz5x8VQ8BkM:&amp;tbnh=69&amp;tbnw=134&amp;prev=/images?q=dine&amp;gbv=2&amp;hl=EN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google.com/imgres?imgurl=http://middlesexconservation.org/Images/spring09images/scots-pine1.gif&amp;imgrefurl=http://middlesexconservation.org/Evergreens.htm&amp;usg=__9SDriDb38YM98rLwA6x1VJENm3Q=&amp;h=591&amp;w=384&amp;sz=158&amp;hl=EN&amp;start=1&amp;tbnid=e7vFW5S5cjpZYM:&amp;tbnh=135&amp;tbnw=88&amp;prev=/images?q=pine&amp;gbv=2&amp;hl=EN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google.com/imgres?imgurl=http://www.xaraxone.com/tutorials/sep06/320906.jpg&amp;imgrefurl=http://www.xaraxone.com/tutorials/sep06/11.html&amp;usg=__0nMtMQvnDR8yYq4Wydh1u-yjCCo=&amp;h=450&amp;w=525&amp;sz=39&amp;hl=EN&amp;start=35&amp;tbnid=mBuAwjNRTutkYM:&amp;tbnh=113&amp;tbnw=132&amp;prev=/images?q=fork+tine&amp;gbv=2&amp;ndsp=18&amp;hl=EN&amp;sa=N&amp;start=18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google.com/imgres?imgurl=http://www.canadiangeographic.ca/Atlas/Images/Glossary/Vine.jpg&amp;imgrefurl=http://www.canadiangeographic.ca/Atlas/glossary.aspx?id=334&amp;alpha=V&amp;lang=En&amp;usg=__j_H1atoohyvgd1ZGtXayZWZCNuw=&amp;h=523&amp;w=350&amp;sz=284&amp;hl=EN&amp;start=16&amp;tbnid=J0aelEaS1eUrpM:&amp;tbnh=131&amp;tbnw=88&amp;prev=/images?q=vine&amp;gbv=2&amp;ndsp=18&amp;hl=EN&amp;sa=N" TargetMode="External"/><Relationship Id="rId8" Type="http://schemas.openxmlformats.org/officeDocument/2006/relationships/image" Target="../media/image37.jpeg"/><Relationship Id="rId9" Type="http://schemas.openxmlformats.org/officeDocument/2006/relationships/hyperlink" Target="http://images.google.com/imgres?imgurl=http://www.drycreekvineyard.com/images/bottles/xlg/2004_old_vine_zinfandel_btl_xlg.jpg&amp;imgrefurl=http://www.drycreekvineyard.com/our_wines/2004_old_vine_zinfandel.html&amp;usg=__7ngoOUqaeaJZjubbXS5Ca37R-G0=&amp;h=4201&amp;w=1285&amp;sz=461&amp;hl=EN&amp;start=20&amp;tbnid=E0mPejSnyFBhxM:&amp;tbnh=150&amp;tbnw=46&amp;prev=/images?q=vine&amp;gbv=2&amp;ndsp=18&amp;hl=EN&amp;sa=N&amp;start=18" TargetMode="External"/><Relationship Id="rId10" Type="http://schemas.openxmlformats.org/officeDocument/2006/relationships/image" Target="../media/image38.jpeg"/><Relationship Id="rId11" Type="http://schemas.openxmlformats.org/officeDocument/2006/relationships/hyperlink" Target="http://www.caltelephone.com/lamps/brine%20pool2.jpg" TargetMode="External"/><Relationship Id="rId12" Type="http://schemas.openxmlformats.org/officeDocument/2006/relationships/image" Target="../media/image39.jpeg"/><Relationship Id="rId13" Type="http://schemas.openxmlformats.org/officeDocument/2006/relationships/hyperlink" Target="http://images.google.com/imgres?imgurl=http://blog.bioethics.net/spine.gif&amp;imgrefurl=http://blog.bioethics.net/2009/01/spine-transparency/&amp;usg=__hRbAKZioEcATx7elWf5Fsf40BLc=&amp;h=539&amp;w=410&amp;sz=19&amp;hl=EN&amp;start=1&amp;tbnid=loofOT339HJBNM:&amp;tbnh=132&amp;tbnw=100&amp;prev=/images?q=spine&amp;gbv=2&amp;hl=EN" TargetMode="External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at makes a team?</a:t>
            </a: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lick to listen to story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11" descr="Ronald Morga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29000" y="2286000"/>
            <a:ext cx="3201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8440" y="236196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w amazing words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tractions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sm and fantasy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Read-Alou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king Fligh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6760" y="352440"/>
            <a:ext cx="73627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114800" y="1828800"/>
          <a:ext cx="4572000" cy="47372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Spelling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ll                 we’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sn’t          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               h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’s              ha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m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n’t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’s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er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533520" y="2209680"/>
          <a:ext cx="3352680" cy="4343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rd Wall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’s telling them I’ll be l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he’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lling them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’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l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’s no time.  We can’t ride to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re’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 time.   W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ide to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’s watching the dogs while I’m gon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o’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tching the dogs whil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’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on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dn’t Mom say he’s at the pa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dn’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m sa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e’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 the pa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895480" y="1295280"/>
          <a:ext cx="5181840" cy="5284800"/>
        </p:xfrm>
        <a:graphic>
          <a:graphicData uri="http://schemas.openxmlformats.org/drawingml/2006/table">
            <a:tbl>
              <a:tblPr/>
              <a:tblGrid>
                <a:gridCol w="5181840"/>
              </a:tblGrid>
              <a:tr h="53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u’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ain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-Frequency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“you ar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the opposite of b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the opposite of c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the following: first, ____, thi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the same as wonderfu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may pick ____ this or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“of cours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304560" y="4568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day’s Fix-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i hit the ball had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I hit the ball hard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what a fun gam this i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What a fun game this   is!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 Your Week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Let’s Talk Abou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orking Togeth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view G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ri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 about what yo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ibute to fami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600200" y="2209680"/>
          <a:ext cx="6095880" cy="34689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4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ed Link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ld of Sport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ball on Brain Po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actions Practic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action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in Po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4760" y="458280"/>
            <a:ext cx="73645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nd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2060"/>
                </a:solidFill>
                <a:latin typeface="Trebuchet MS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rebuchet MS"/>
              </a:rPr>
              <a:t>(Password Required)</a:t>
            </a:r>
            <a:r>
              <a:rPr b="0" lang="en-US" sz="40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676520" y="2362320"/>
          <a:ext cx="6324480" cy="2514600"/>
        </p:xfrm>
        <a:graphic>
          <a:graphicData uri="http://schemas.openxmlformats.org/drawingml/2006/table">
            <a:tbl>
              <a:tblPr/>
              <a:tblGrid>
                <a:gridCol w="632448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Fit: Lifetime Fitness (15:00)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398160"/>
            <a:ext cx="779292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es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ory Test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ading Street for Students:  Reading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 Test:  Ronald Morgan Goes to Bat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ther Reading Quiz # 9046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m - p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mpe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ou try very hard to win or you become part of a cont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team will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mpe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their team for the champions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 and Jenny ar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mpe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the spelling be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n – trib - u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ntribu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something, you help along with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body on the team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ntribu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rd work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ntribu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r own ideas for the par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re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c – re  – a – 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cre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fun or something you do to have a good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like to go to the beach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cre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the su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’s family goes camping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cre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2514600"/>
            <a:ext cx="289548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this song about working as a t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Content Placeholder 4" descr="190l_190m_img2.gif"/>
          <p:cNvPicPr/>
          <p:nvPr/>
        </p:nvPicPr>
        <p:blipFill>
          <a:blip r:embed="rId1"/>
          <a:stretch/>
        </p:blipFill>
        <p:spPr>
          <a:xfrm>
            <a:off x="3878280" y="228600"/>
            <a:ext cx="52657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oes not  -  doesn’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contraction, a short way of saying and writing two word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postrophe takes the place of letters that have been left out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we compare these words, we see that the apostrophe takes the place of the lette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see a contraction, you know it is a short way of writing two wo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236232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you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he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24280" y="23623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ld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ul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o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e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d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480" y="236232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s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24280" y="23623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 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t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y w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d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0520" y="2017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re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86040" y="205740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c1c1c"/>
                </a:solidFill>
                <a:latin typeface="Tahoma"/>
              </a:rPr>
              <a:t>Small Group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imer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spell contractions by thinking about the two words that make up the contraction.  What words make up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about how you spell those two words.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 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n apostrophe to take the place of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ou leave o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you spell contractions, make sure to put the apostrophe in the right p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760" y="352440"/>
            <a:ext cx="73627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67080" y="1752480"/>
          <a:ext cx="4572000" cy="47372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8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Spelling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ll                 we’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sn’t          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               h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’s              ha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m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n’t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’s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er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09480" y="2514600"/>
          <a:ext cx="3353040" cy="39625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rd Wall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rob</a:t>
            </a:r>
            <a:br>
              <a:rPr sz="44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371600" y="1828800"/>
          <a:ext cx="6359400" cy="4246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kn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ro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Picture 2" descr="http://tbn1.google.com/images?q=tbn:KjYtLyUunvu9zM:http://thefuntimesguide.com/images/blogs/corn_on_cob_hold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286000"/>
            <a:ext cx="194292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tbn1.google.com/images?q=tbn:QnhdTcKZk_1PUM:http://www.sz-wholesale.com/uploadFiles/upimg1/Rectangle-Oval-Or-Teardrop-Key-Fob1531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20574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tbn2.google.com/images?q=tbn:s2eeYjYigbebkM:http://williamlobdell.com/wp-content/uploads/2009/02/angry-mob.bmp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343400"/>
            <a:ext cx="2496960" cy="1905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tbn2.google.com/images?q=tbn:N7-uBKxQI_gXEM:http://1.bp.blogspot.com/_t-wcG2Q5x8w/RypZkDLMMWI/AAAAAAAAAM4/sxTzllKJP3M/s320/drummonds_knob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228600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tbn3.google.com/images?q=tbn:4CMfdAOBJhzbyM:http://www.uloc.de/screenshots/h/habf17_10_homer_blob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343400"/>
            <a:ext cx="2124000" cy="1523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ttp://tbn3.google.com/images?q=tbn:SXyDpKZpEsB_cM:http://www.dreamstime.com/loathsome-slob-thumb59176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48120" y="4343400"/>
            <a:ext cx="2182680" cy="1523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http://tbn3.google.com/images?q=tbn:7ktDh2HvFADZIM:http://www.sue-chan.com/art/snob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62920" y="1828800"/>
            <a:ext cx="1508040" cy="19051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1"/>
          <p:cNvSpPr/>
          <p:nvPr/>
        </p:nvSpPr>
        <p:spPr>
          <a:xfrm>
            <a:off x="1136520" y="365760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3566880" y="35812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5396040" y="35812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7453080" y="3733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n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880200" y="5943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ob/bl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3798360" y="5943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l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6919920" y="60199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clock</a:t>
            </a:r>
            <a:br>
              <a:rPr sz="44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71600" y="1828800"/>
          <a:ext cx="6359400" cy="39625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kn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clo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Picture 2" descr="http://tbn0.google.com/images?q=tbn:GY4IpTvB2Bjz8M:http://z.about.com/d/gocentralamerica/1/0/U/-/-/-/do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096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tbn2.google.com/images?q=tbn:WZDOZOE1uDTP9M:http://jockdreams.com/images/Jock012408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2209680"/>
            <a:ext cx="1190520" cy="1162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ttp://tbn1.google.com/images?q=tbn:4K9N-tjtKUpd8M:http://www.fs.fed.us/r3/coronado/forest/local-resources/images/reppelling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924680" y="2133720"/>
            <a:ext cx="828720" cy="121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http://tbn1.google.com/images?q=tbn:S_f9iD0zBTmPdM:http://www.kjbeckett.com/mensfashionblog/uploaded_images/paul-smith-socks-78486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81480" y="2209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http://tbn2.google.com/images?q=tbn:Y6oK_EXaUk1_wM:http://www.shelleygrund.com/images/PADs/PAD65-tick-tock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419112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http://tbn2.google.com/images?q=tbn:W4lq1Xmg65OibM:http://www.blakeneymanor.com/images/carryon/shock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4191120"/>
            <a:ext cx="1433520" cy="1066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http://tbn0.google.com/images?q=tbn:HaoEXM1eF7_CFM:http://base.cygnuspub.com/images/Products/GSW/2007/Nov/300x300/AEROSpeci_ChockLock_25524.pn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95280" y="41911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http://tbn3.google.com/images?q=tbn:CBPvG0fzZjnHwM:http://www.naturalsciences.org/microsites/education/treks/bluebird/images/Knock-first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629400" y="213372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http://tbn0.google.com/images?q=tbn:pgs0IaQbLgMZMM:http://www.germes-online.com/direct/dbimage/50185440/ABC_Block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943600" y="41911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http://tbn0.google.com/images?q=tbn:v-xos10jXc7WsM:http://www.roadtrucker.com/12-volt-cooking/12-volt-cooking-products/12-volt-slow-cooker-crock-pot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562720" y="5715000"/>
            <a:ext cx="847440" cy="914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2" descr="http://tbn2.google.com/images?q=tbn:2XVm_U41rqdeGM:http://www.freefoto.com/images/01/01/01_01_24---Flock-of-Birds_web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438280" y="579132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4" descr="http://tbn0.google.com/images?q=tbn:hpecjBRiGfcWjM:http://restaurantuniforms.com/artistsmock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391520" y="426708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http://tbn2.google.com/images?q=tbn:Z3-S5wDYXGWoJM:http://www.ipr.edu/multimedia/wp-content/uploads/2009/02/star-trek-spock1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19720" y="41911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http://tbn2.google.com/images?q=tbn:QqJuTuhyQiiHtM:http://www.harmonyhouseservices.org/stock%2520room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3505320" y="2209680"/>
            <a:ext cx="1515960" cy="1143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6"/>
          <p:cNvSpPr/>
          <p:nvPr/>
        </p:nvSpPr>
        <p:spPr>
          <a:xfrm>
            <a:off x="600120" y="3352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2285280" y="34290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Box 18"/>
          <p:cNvSpPr/>
          <p:nvPr/>
        </p:nvSpPr>
        <p:spPr>
          <a:xfrm>
            <a:off x="3870360" y="335268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9"/>
          <p:cNvSpPr/>
          <p:nvPr/>
        </p:nvSpPr>
        <p:spPr>
          <a:xfrm>
            <a:off x="5402520" y="342900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20"/>
          <p:cNvSpPr/>
          <p:nvPr/>
        </p:nvSpPr>
        <p:spPr>
          <a:xfrm>
            <a:off x="6609600" y="342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8061120" y="335268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444600" y="54864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Box 23"/>
          <p:cNvSpPr/>
          <p:nvPr/>
        </p:nvSpPr>
        <p:spPr>
          <a:xfrm>
            <a:off x="1587600" y="54864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Box 24"/>
          <p:cNvSpPr/>
          <p:nvPr/>
        </p:nvSpPr>
        <p:spPr>
          <a:xfrm>
            <a:off x="2951640" y="5257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Box 25"/>
          <p:cNvSpPr/>
          <p:nvPr/>
        </p:nvSpPr>
        <p:spPr>
          <a:xfrm>
            <a:off x="4633920" y="5334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6159240" y="53341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27"/>
          <p:cNvSpPr/>
          <p:nvPr/>
        </p:nvSpPr>
        <p:spPr>
          <a:xfrm>
            <a:off x="7450920" y="5486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Box 28"/>
          <p:cNvSpPr/>
          <p:nvPr/>
        </p:nvSpPr>
        <p:spPr>
          <a:xfrm>
            <a:off x="3801240" y="617220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29"/>
          <p:cNvSpPr/>
          <p:nvPr/>
        </p:nvSpPr>
        <p:spPr>
          <a:xfrm>
            <a:off x="6465240" y="6172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Let’s Talk About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Working Together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ism &amp; Fantas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alist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ory tells about something that could happen in real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antas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make-believe story.  It could not happen in real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readers look for clues that tell them if a story i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antas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Read-Aloud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7524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he Elephant Tea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nday’s Fix-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e want to play basebal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We want to play baseball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s a fun game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It’s a fun game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381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 Narrow"/>
                <a:ea typeface="Arial"/>
              </a:rPr>
              <a:t>Vocabulary &amp; Amazing Wor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7"/>
              </a:rPr>
              <a:t>Spelling City-Vo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8"/>
              </a:rPr>
              <a:t>Spelling City- Ama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00600" y="22096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 Narrow"/>
                <a:ea typeface="Arial"/>
              </a:rPr>
              <a:t>Spelling </a:t>
            </a:r>
            <a:r>
              <a:rPr b="1" i="1" lang="en-US" sz="3200" spc="-1" strike="noStrike">
                <a:solidFill>
                  <a:srgbClr val="002060"/>
                </a:solidFill>
                <a:latin typeface="Arial Narrow"/>
                <a:ea typeface="Arial"/>
              </a:rPr>
              <a:t>W</a:t>
            </a:r>
            <a:r>
              <a:rPr b="1" lang="en-US" sz="3200" spc="-1" strike="noStrike">
                <a:solidFill>
                  <a:srgbClr val="002060"/>
                </a:solidFill>
                <a:latin typeface="Arial Narrow"/>
                <a:ea typeface="Arial"/>
              </a:rPr>
              <a:t>or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 Narrow"/>
                <a:ea typeface="Arial"/>
              </a:rPr>
              <a:t>High Frequency Wor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3"/>
              </a:rPr>
              <a:t>Fill-in-the Bla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4"/>
              </a:rPr>
              <a:t>Spelling City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5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rammar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oper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u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u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word that names a person, place, animal, or th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roper nou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special names for people, places, animals, and thing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begin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pital let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week,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onth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year,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oli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so begin with capital let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it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people begin with capital letters.  Many titles end with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rammar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oper Nou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icia ortiz broke her arm in the game on july 1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licia Ortiz broke her arm in the game on July 1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r lee told her no more baseball until labor da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r. Lee told her no more baseball until Labor Da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rammar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oper Nou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friday alicia was back at pioneer park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n Friday Alicia was back at Pioneer Park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er team, the patton panthers, was playing the terry tiger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Her team, the Patton Panthers, was playing the Terry Tiger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rammar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oper Nou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o, roberto!  Come on, cindy!” shouted alici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Go, Roberto!  Come on, Cindy!” shouted Alici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m and Fanta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morrow we will read about a boy who loves baseba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00200" y="2209680"/>
          <a:ext cx="6095880" cy="35658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 sports in whic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 can compet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90720" y="2209680"/>
          <a:ext cx="7315200" cy="366408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ay we will read about Ronald Morgan and his baseball team.  Ronald isn’t a very good player, but he’s still an important part of the team.  What are some ways that individuals can help a team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90720" y="2209680"/>
          <a:ext cx="7315200" cy="366408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ay we will read about Ronald Morgan and his baseball team.  Ronald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sn’t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 very good player, but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e’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till an important part of the team.  What are some ways that individuals can help a team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65534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w amazing words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actions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alism and fantasy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or knowledge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igh-frequency words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ocabulary words, a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per nou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4760" y="458280"/>
            <a:ext cx="73645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uesd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3594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2514600"/>
          <a:ext cx="3352680" cy="38466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384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tch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rif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ir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952880" y="1219320"/>
          <a:ext cx="3927600" cy="5260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ibu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re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er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of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k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er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 - s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ser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mething, you have a right to it or have earned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ser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treat for cleaning your roo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hel worked so hard preparing for the race, s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serv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w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o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ou feel sad and sorry for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og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op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ound the house when the children were in school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easy to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o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n you don’t have anyone to play wi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u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ct – u – 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ctuat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hing, you get it started or put it into 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fferent steps are needed to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ctu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spaces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toy i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ctua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a wind-up spr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Read-Aloud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From Me to Yo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’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read this word because you know how to read contractions.  What two words for I’l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 wi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come to a contraction, you know it is a short way of writing two words.  An apostrophe takes the place of letters that were left o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listen  to “I’m on the Team.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" descr="Phonics Songs and Rhymes Chart 7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71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d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49280" y="2017800"/>
            <a:ext cx="60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ck out the contractions in “I’m on the Team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’m – I 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n’t – do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’ll – we w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t’s – it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6760" y="352440"/>
            <a:ext cx="73627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114800" y="1828800"/>
          <a:ext cx="4572000" cy="47372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8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Spelling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ll                 we’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sn’t          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               h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’s              ha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m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n’t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’s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er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33520" y="2209680"/>
          <a:ext cx="3352680" cy="4343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rd Wall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make</a:t>
            </a:r>
            <a:br>
              <a:rPr sz="44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371600" y="1828800"/>
          <a:ext cx="6359400" cy="47577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qu</a:t>
                      </a: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ma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4" name="Picture 2" descr="http://tbn0.google.com/images?q=tbn:batswpqOtAQu4M:http://smartcanucks.ca/wp-content/uploads/2006/10/easy-bake-ov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362320"/>
            <a:ext cx="1420560" cy="1218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://tbn3.google.com/images?q=tbn:vCHnnqfClJBp7M:http://cinderellacaketoppers.com/data/media/8/pink-wedding-cak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2209680"/>
            <a:ext cx="1244520" cy="144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http://tbn1.google.com/images?q=tbn:N3LJkG62aJn5zM:http://i.ehow.com/images/GlobalPhoto/Articles/2135205/rake_Ful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2209680"/>
            <a:ext cx="1350720" cy="1447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http://tbn0.google.com/images?q=tbn:1QEkRtrPS6NhKM:http://candyaddict.com/blog/candy_pictures/andes_mint_shak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2133720"/>
            <a:ext cx="1086120" cy="1447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http://tbn0.google.com/images?q=tbn:gN9A2-GOo0qDwM:http://www.sheldonbrown.com/images/campagnolo-cobalto-brak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267080"/>
            <a:ext cx="1447560" cy="1627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http://tbn0.google.com/images?q=tbn:vC1sxaUIzIG4YM:http://birdsbybaranoff.com/images/9308-black-duck-drak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19520" y="4343400"/>
            <a:ext cx="1752480" cy="1292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http://tbn1.google.com/images?q=tbn:NzYVg4u5cP7Y8M:http://dave.csonka.net/gallery/d/51-2/snow_flak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952880" y="4343400"/>
            <a:ext cx="1503360" cy="1295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http://tbn2.google.com/images?q=tbn:i8meDtrFRjmIOM:http://www.wallpaperbase.com/wallpapers/animals/snakes/snake_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781680" y="4343400"/>
            <a:ext cx="1833840" cy="1371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http://tbn2.google.com/images?q=tbn:OzfqNiHwa46afM:http://www.victoriananursery.co.uk/plant_care_and_gardening_tools/tree_stake_and_tie/l/tree_stake_tie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21337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905040" y="36576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23572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4028400" y="36576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5543280" y="35812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7229880" y="36576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973800" y="5867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3259800" y="5715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5325840" y="56386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Box 22"/>
          <p:cNvSpPr/>
          <p:nvPr/>
        </p:nvSpPr>
        <p:spPr>
          <a:xfrm>
            <a:off x="7301880" y="5715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n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819520" y="1219320"/>
          <a:ext cx="4190760" cy="528480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28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u’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ain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20680" y="2017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d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e w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he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45120" y="2017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s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l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ould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e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020680" y="2017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o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hould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 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45120" y="2017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t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o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’ll ask Ann if it’s her p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’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k Ann i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t’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er p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’m going to ask who’s co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’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oing to ask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o’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didn’t find the ball he’s asking f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nd the ball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e’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king f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doll wasn’t the one she’s talking abo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doll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asn’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on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he’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lking abo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ism &amp; Fantas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alist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ory tells about something that could happen in real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antas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make-believe story.  It could not happen in real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you read, ask yourself if the things that happen could occur in real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ice clues from the pictures that tell if the story i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antas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or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ior knowledg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what you already know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you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i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knowled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 you read can help you figure out the story, as well as help you guess what might happen nex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0" y="1295280"/>
          <a:ext cx="5181480" cy="528480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528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u’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ain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-Frequency Words 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0520" y="2017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’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26000" y="201780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h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rtai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2720" y="248760"/>
            <a:ext cx="735984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335240" y="2244600"/>
          <a:ext cx="6629400" cy="406584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4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Vocabulary Wor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lutched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held tightl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errific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very goo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piri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energy; livelines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cabulary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school played baseball against a ____ t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school played baseball against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errif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friend _____ his mitt and jumped to catch the b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frie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lutch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is mitt and jumped to catch the b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heered for him with a lot of ____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heered for him with a lo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pir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6760" y="352440"/>
            <a:ext cx="73627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14800" y="1905120"/>
          <a:ext cx="4572000" cy="47368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8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Spelling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ll                 we’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sn’t          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               h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’s              ha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m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n’t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’s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er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33520" y="2286000"/>
          <a:ext cx="3352680" cy="4343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rd Wall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091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uesday’s Fix-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whos going to pla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Who’s going to play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when will we st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When will we start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rammar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per Nou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th      -       Ju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iday     -      Thanksgiving 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names for people, places, animals, and things are calle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per nou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per nou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gin with a capital le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morrow we will hear more about Rat and his frie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458280"/>
            <a:ext cx="77929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00200" y="2209680"/>
          <a:ext cx="6095880" cy="3749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 about when you did something nice for a friend or family member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458280"/>
            <a:ext cx="77929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ednes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600200" y="220968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ay we will read about Rat.  Rat is a make-believe character who feels lonely until he gets a letter.  Why might a letter make him feel better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458280"/>
            <a:ext cx="77929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ednes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600200" y="220968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ay we will read about Rat.  Rat is a make-believe character who feels lonely until he gets a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letter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 Why might a letter make him feel better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904760" y="22096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-Controlled 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r, or, ore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tractions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gh-frequency words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4760" y="458280"/>
            <a:ext cx="73645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ednesd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of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 - lo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hing that i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lo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high up or up in the a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irplane flie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lo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e plane i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lo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assengers can get up and walk a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n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in - 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ink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something, you work at it and fool around with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 a person invents something great when he or she is jus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ink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 da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inke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our old TV set and figured out how to fix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ig Question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What makes a team?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Controlled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ar, or, 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720" y="24382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r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aking Word Letter T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677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– o – e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c – f – h – k – m – r –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s  – t</a:t>
            </a: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-Frequency Words</a:t>
            </a:r>
            <a:br>
              <a:rPr sz="4400"/>
            </a:br>
            <a:r>
              <a:rPr b="0" lang="en-US" sz="2400" spc="-1" strike="noStrike">
                <a:solidFill>
                  <a:srgbClr val="ffc000"/>
                </a:solidFill>
                <a:latin typeface="Tahoma"/>
              </a:rPr>
              <a:t>certainly, either, great, laugh, second, worst, you’r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 loved baseball, but he had never played.  He wanted to try out for the team, but he was afraid.  “What if I can’t hit the ball and they _______ at me?”  said B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’m not a _____ player like you, Dad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gr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-Frequency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d let out a big _____ .  “Now wait one ______ , Ben,” Dad chuckl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ugh,  sec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______ didn’t start out that way.   At first, I felt like the ____ player on my team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ertainly, wo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-Frequency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d explained to Ben how hard he practiced.  “Then I got better and better.  I didn’t want to give up.”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 thought for a moment.  “I don’t want to give up _____!  Let’s practice!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6760" y="352440"/>
            <a:ext cx="73627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114800" y="1905120"/>
          <a:ext cx="4572000" cy="47368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8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Spelling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ll                 we’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sn’t          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               h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’s              ha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m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n’t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’s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er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33520" y="2286000"/>
          <a:ext cx="3352680" cy="4343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rd Wall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line</a:t>
            </a:r>
            <a:br>
              <a:rPr sz="44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371600" y="1828800"/>
          <a:ext cx="6359400" cy="47577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wh</a:t>
                      </a: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1" name="Picture 4" descr="http://tbn2.google.com/images?q=tbn:hy9Oz5x8VQ8BkM:http://findwhistler.com/images/dine/di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286000"/>
            <a:ext cx="2219400" cy="1143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http://tbn1.google.com/images?q=tbn:e7vFW5S5cjpZYM:http://middlesexconservation.org/Images/spring09images/scots-pine1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133720"/>
            <a:ext cx="1092240" cy="1676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http://tbn0.google.com/images?q=tbn:mBuAwjNRTutkYM:http://www.xaraxone.com/tutorials/sep06/32090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2438280"/>
            <a:ext cx="1218960" cy="1043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http://tbn2.google.com/images?q=tbn:J0aelEaS1eUrpM:http://www.canadiangeographic.ca/Atlas/Images/Glossary/Vin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2133720"/>
            <a:ext cx="1371600" cy="2041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http://tbn3.google.com/images?q=tbn:E0mPejSnyFBhxM:http://www.drycreekvineyard.com/images/bottles/xlg/2004_old_vine_zinfandel_btl_xlg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4267080"/>
            <a:ext cx="438120" cy="14288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480" y="4267080"/>
            <a:ext cx="2229120" cy="1524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http://tbn3.google.com/images?q=tbn:loofOT339HJBNM:http://blog.bioethics.net/spine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76920" y="4267080"/>
            <a:ext cx="1212840" cy="1600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8" descr="http://tbn0.google.com/images?q=tbn:qIQwCwu6KtW44M:http://misslissa.files.wordpress.com/2009/04/swine.jpg"/>
          <p:cNvPicPr/>
          <p:nvPr/>
        </p:nvPicPr>
        <p:blipFill>
          <a:blip r:embed="rId15"/>
          <a:stretch/>
        </p:blipFill>
        <p:spPr>
          <a:xfrm>
            <a:off x="6629400" y="4800600"/>
            <a:ext cx="1847880" cy="12366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3"/>
          <p:cNvSpPr/>
          <p:nvPr/>
        </p:nvSpPr>
        <p:spPr>
          <a:xfrm>
            <a:off x="1512360" y="35053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Box 14"/>
          <p:cNvSpPr/>
          <p:nvPr/>
        </p:nvSpPr>
        <p:spPr>
          <a:xfrm>
            <a:off x="3487680" y="3809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5478120" y="358128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7385760" y="4191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1347840" y="579132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Box 18"/>
          <p:cNvSpPr/>
          <p:nvPr/>
        </p:nvSpPr>
        <p:spPr>
          <a:xfrm>
            <a:off x="3419640" y="586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084280" y="609588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7219440" y="60199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hymes with st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ere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a rhyming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uldn’t, shouldn’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hyme with sh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o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 about more than one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e’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 about only one person or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’ll, it’s, he’s, I’m, she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the word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asn’t, didn’t, isn’t, hasn’t, hadn’t, wouldn’t, shouldn’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ednesday’s Fix-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’m made that it is rainning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f01"/>
                </a:solidFill>
                <a:latin typeface="Tahoma"/>
              </a:rPr>
              <a:t>I’m mad that it is raining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 hop it does not last lo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f01"/>
                </a:solidFill>
                <a:latin typeface="Tahoma"/>
              </a:rPr>
              <a:t>I hope it does not last long.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n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52480" y="2438280"/>
          <a:ext cx="6096240" cy="3346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3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eam is like a family.  It’s important that each person supports the others.  What makes a team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 nouns are special names for people, places, animals, or th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examples for proper nouns for these common nou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t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i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458280"/>
            <a:ext cx="77929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ednes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 about a time when you were part of a team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rts such as baseball require teams.  How does a team work together?  Today we will read about how creatures in outer space play a game just like people d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rts such as baseball require teams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How does a team work together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Today we will read about how creatures in outer space play a game just like people do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01560" y="277956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ontractions,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proper nouns,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ding poetr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night</a:t>
            </a:r>
            <a:br>
              <a:rPr sz="4400"/>
            </a:b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online dictionar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371600" y="18288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W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kn</a:t>
                      </a: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’ll give bread to that family when it’s rea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’ll tell me if they heard the whir of crickets in the shady mead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m going to pull that thin white thread off the dark fabr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didn’t break that gingerbread dish on the shel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think he’ll help Dad once in a wh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ll listen to that pleasant music Uncle Chuck pl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Student Page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ursday Fix-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t didnt rain muc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f01"/>
                </a:solidFill>
                <a:latin typeface="Tahoma"/>
              </a:rPr>
              <a:t>It didn’t rain much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an john be on my team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f01"/>
                </a:solidFill>
                <a:latin typeface="Tahoma"/>
              </a:rPr>
              <a:t>Can John be on my team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:  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82600" y="2703600"/>
          <a:ext cx="7772400" cy="2743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n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76520" y="2590920"/>
          <a:ext cx="6095880" cy="33462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eam is like a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amil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 It’s important that each person supports the others.  What makes a team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:  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182600" y="2703600"/>
          <a:ext cx="7772400" cy="2743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nald  Mor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:  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182600" y="2703600"/>
          <a:ext cx="7772400" cy="2743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nald  Mor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:  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182600" y="2703600"/>
          <a:ext cx="7772400" cy="2743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nald  Mor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:  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182600" y="2703600"/>
          <a:ext cx="7772400" cy="2743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nald  Mor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 to 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eard a story about two brothers and their inventions.  Tomorrow we will hear about the Wright brothers agai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 fun things to do for recreation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ri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600200" y="2209680"/>
          <a:ext cx="6095880" cy="3810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s week we read about people working and playing together.  Teams are formed for recreation and for working.  People contribute to teams and compete with other teams.  What makes a tea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ri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905120" y="2590920"/>
          <a:ext cx="6095880" cy="3809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s week we read about people working and playing together.  Teams are formed for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recre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nd for working.  People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ontribu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eams and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omp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other teams.  What makes a tea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76160" y="228564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ractions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gh-frequency words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vocabulary words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per nouns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ading poet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2720" y="248760"/>
            <a:ext cx="735984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85800" y="2743200"/>
          <a:ext cx="3352680" cy="38466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0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tch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rif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ir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4419720" y="1371600"/>
          <a:ext cx="3927240" cy="526104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ibu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re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er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of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k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2-09-30T20:30:47Z</dcterms:modified>
  <cp:revision>69</cp:revision>
  <dc:subject/>
  <dc:title>Slide 1</dc:title>
</cp:coreProperties>
</file>